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E61F-860F-47EC-8A09-BF96B750E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olutionary Concepts: Variation and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 February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Concepts: Variation and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t and Recessive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t allel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te” over other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ll be expressed, while a recessive allele is suppress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cessive allel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that are suppressed in the presence of a dominant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and Recessiv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te” over other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 expressed, while a recessive allele is sup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that are suppressed in the presence of a dominant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P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llection of available alleles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tribution of these alleles across the population is not taken into account!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lection of available allele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these alleles across the population is not taken into account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requency of an allele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0 individuals = 100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5 R alleles = 25/100 = 25% 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0.25 is the frequency of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5 W alleles = 75/100 W = 75% W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0.75 is the frequency of 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n allele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individuals = 100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R alleles = 25/100 = 25% 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0.25 is the frequency of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W alleles = 75/100 W = 75% W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0.75 is the frequency of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m of the frequencies for each allele in a population is always equal to 1.0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equencies are percentages, and the total percentage must be 1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0% = 1.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the frequencies for each allele in a population is always equal to 1.0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are percentages, and the total percentage must be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% = 1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important frequ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centage of each genotype present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centage of each phenotype present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centage of each genotype present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centage of each phenotype present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w we can define evolution as the change in genotype frequencies over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e can define evolution as the change in genotype frequenci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very stuff of evolution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out genetic variation, there can be no 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stuff of evolu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genetic variation, there can be no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ige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ge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upp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upp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s phenotypic variation not as importan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ic variation is the result of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ic var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vironmental var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eff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ch as maternal or paternal eff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completely heritabl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phenotypic variation not as importa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ic variation is the result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s maternal or paternal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mpletely heritab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 and Termin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s within populations or species in gene frequencies and distributions of tra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cro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level changes, e.g. generation of new species or higher–level classif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and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within populations or species in gene frequencies and distributions of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level changes, e.g. generation of new species or higher–level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rdy-Weinberg Equilibri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ve conditions under which evolution cannot occ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five must be met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y one is violated, the population will evolv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conditions under which evolution cannot occ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ive must be me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one is violated, the population will evol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WE: Five condi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net change in allele frequencies due to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mbers of the population mate random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 alleles do not enter the population via immigrating individu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ural selection does not occ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E: Five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t change in allele frequencies due to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population mate random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lleles do not enter the population via immigrating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does not occ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WE: 5 viol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, five ways in which populations CAN evolv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n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gration (Gene flow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all population sizes (Genetic drif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E: 5 vio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five ways in which populations CAN evol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(Gene f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pulation sizes (Genetic dri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the total of all allele frequencies is equal to 1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e frequency of Allele 1 is 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frequency of Allele 2 is 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n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total of all allele frequencies is equal to 1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frequency of Allele 1 is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frequency of Allele 2 is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, because with two alleles we have three genotyp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p, pq, and q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requencies of these genotypes are equal to (p + q)2 = 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, p2 + 2pq + q2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, because with two alleles we have three geno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, pq, and q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ies of these genotypes are equal to (p + q)2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, p2 + 2pq + q2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l population of butterflies has 50 individu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many alleles are in the population at one locu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e distribution of genotype frequencies is 10 AA, 20 Aa, 20 aa, what are the frequencies of the two alleles?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population of butterflies has 50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alleles are in the population at one loc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distribution of genotype frequencies is 10 AA, 20 Aa, 20 aa, what are the frequencies of the two alleles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50 individuals, there are 100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AA individual has 2 A’s, for a total of 20. Each Aa individual has 1 A, for a total of 20. Total number of A = 40, out of 100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 = 0.4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Aa has 1 a, = 20, plus 2 a’s for each aa (=40), = 60/100 a,  q = 0.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, q = 1 - p = 1 - 0.40 = 0.6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50 individuals, there are 100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A individual has 2 A’s, for a total of 20. Each Aa individual has 1 A, for a total of 20. Total number of A = 40, out of 100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0.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a has 1 a, = 20, plus 2 a’s for each aa (=40), = 60/100 a,  q = 0.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, q = 1 - p = 1 - 0.40 = 0.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expected genotype frequencies after one generation? (Assume no evolutionary agents are acting!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A = (0.40) X (0.40) = 0.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a = 2 X (0.40) X (0.60) = 0.4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a = (0.60) X (0.60) = 0.3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= (0.40) X (0.40) = 0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= 2 X (0.40) X (0.60) = 0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= (0.60) X (0.60) = 0.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tion of a chromosome that encodes the information to build a prote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is known as a “locus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of a chromosome that encodes the information to build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is known as a “locu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 is the source of genetic variation!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other source for entirely new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is the source of genetic variation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ther source for entirely new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y widely acros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i (plural of locu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y widely acro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i (plural of loc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d by phenotypic effects in huma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 of 10-6 to 10-5 per gamete per gen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number of gene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stimates range from about 30,000 to over 100,000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everyone is a mutan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by phenotypic effects in huma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of 10-6 to 10-5 per gamete per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umber of gen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s range from about 30,000 to over 100,000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everyone is a muta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 rate of the HIV–AIDS viru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error every 104 to 105 base pai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ze of the HIV–AIDS genom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104 to 105 base pai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, about one mutation per replication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rate of the HIV–AIDS vir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error every 104 to 105 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the HIV–AIDS geno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104 to 105 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bout one mutation per replica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V-AIDS Vid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V-AIDS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 generally hig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a high load of deleterious (harmful)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x may be a way to eliminate or reduce the load of deleterious mutation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 generally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a high load of deleterious (harmful)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may be a way to eliminate or reduce the load of deleterious muta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int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e-pair substit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used by chance errors during synthesis or repair of D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new alleles (may or may not change phenotyp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-pair substit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chance errors during synthesis or repair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new alleles (may or may not change phenotyp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du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ult of unequal crossing over during mei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redundant 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may mutate free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may thus gain new fun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u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unequal crossing over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redundant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may mutate fre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may thus gain new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 du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used by errors in meiosis (mitosis in plan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mon in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polyploid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lead to new species of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e to inability to interbr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du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errors in meiosis (mitosis in pl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lead to new species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inability to interbr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ffect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tively speaking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mutations have little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are actually harmfu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w are benefi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ly speaking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utations have littl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re actually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are benefi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eties of the information at a particular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 organism has two alleles (can be same or different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limit to the number of alleles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eties of the information at a particular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organism has two alleles (can be same or differen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limit to the number of allele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can mutations lead to big change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umulation of many small mutations, each with a small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umulation of several small mutations, each with a large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large mutation with a large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 in a regulatory sequence (affects regulation of developm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mutations lead to big chan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ion of many small mutations, each with a small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ion of several small mutations, each with a larg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large mutation with a larg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in a regulatory sequence (affects regulation of develop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rmal fly h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fly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ennapedia f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nnapedia f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der random mating, the chance of any individual in a population mating is exactly the same as for any other individual in the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ly, hard to find in n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, can approximate in many large populations over short periods of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random mating, the chance of any individual in a population mating is exactly the same as for any other individual in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hard to find in n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can approximate in many large populations over short periods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olations of random mating lead to changes in genotypic frequencies, not allele frequ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, can lead to changes in effective population siz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olations of random mating lead to changes in genotypic frequencies, not allele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can lead to changes in effective population siz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phant seal vid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phant seal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duction in the effective population size leaves a door open for the effects of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Drif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n the effective population size leaves a door open for the effects of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Drift Acti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tic Drift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Zygo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mozygou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copies of the same allele at one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terozygou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different alleles at one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zygo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opies of the same allele at one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different alleles at one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information contained at a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alleles are actually present at a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available: R and 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sible genotypes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R, RW, W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information contained at a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lleles are actually present at a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available: R and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genotyp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, RW, 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ppearance of an organ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ults from the underly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ance of an org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from the underly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1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R (red) and W (white), codomin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s: Red, Pink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les R (red) and W (white), co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: Red, Pink,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2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R (red) and w (white), simple domin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s: Red, Red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les R (red) and w (white), simpl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: Red, Red,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94A-D6EC-47BB-A1F4-FCF73CD8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5060-8F6D-45B0-B5BA-AC80C16D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967A-EE1F-47C8-B288-5E0108D8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52FE-6734-4691-882D-796CE5B3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FDE7-7EF1-4664-90EF-B7533DEA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5207-F8DA-4B82-A03E-3EF01483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1F84-EDD3-4BD5-A54D-0492C37A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C590-1FED-44EC-9848-A954CA94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04AF-4574-4302-B711-BF3C6CBD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F024-3A8B-41C7-B889-DCBE5EA9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8A2E-0B2D-403B-BD2F-B3AC5388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8743-F958-4FE2-9ED4-C7665B9E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0792-F7F1-42CE-A1A7-8C013A5380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volutionary Concepts: Variation and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 February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ominant and Recessive Allele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minant alle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inate” over other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expressed, while a recessive allele is suppr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ssive alle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that are suppressed in the presence of a dominant 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 Pool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llection of available alleles in a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istribution of these alleles across the population is not taken into account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llele frequenc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requency of an allele in a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 individuals = 100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5 R alleles = 25/100 = 25% 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0.25 is the frequency of 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5 W alleles = 75/100 W = 75% W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0.75 is the frequency of 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llele frequenc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m of the frequencies for each allele in a population is always equal to 1.0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cies are percentages, and the total percentage must be 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% = 1.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Other important frequencie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otype freq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centage of each genotype present in a po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otype freq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centage of each phenotype present in a po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volu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we can defin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olu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s the change in genotype frequencies over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tic Vari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ery stuff of evolu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out genetic variation, there can be no 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ige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97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2006640" cy="252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2"/>
          <a:stretch/>
        </p:blipFill>
        <p:spPr>
          <a:xfrm>
            <a:off x="0" y="3987720"/>
            <a:ext cx="3492360" cy="2870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3"/>
          <a:stretch/>
        </p:blipFill>
        <p:spPr>
          <a:xfrm>
            <a:off x="1143000" y="2286000"/>
            <a:ext cx="2374920" cy="195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"/>
          <p:cNvPicPr/>
          <p:nvPr/>
        </p:nvPicPr>
        <p:blipFill>
          <a:blip r:embed="rId4"/>
          <a:stretch/>
        </p:blipFill>
        <p:spPr>
          <a:xfrm>
            <a:off x="5715000" y="4040280"/>
            <a:ext cx="3429000" cy="2817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"/>
          <p:cNvPicPr/>
          <p:nvPr/>
        </p:nvPicPr>
        <p:blipFill>
          <a:blip r:embed="rId5"/>
          <a:stretch/>
        </p:blipFill>
        <p:spPr>
          <a:xfrm>
            <a:off x="3124080" y="4305240"/>
            <a:ext cx="3111480" cy="2552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"/>
          <p:cNvPicPr/>
          <p:nvPr/>
        </p:nvPicPr>
        <p:blipFill>
          <a:blip r:embed="rId6"/>
          <a:stretch/>
        </p:blipFill>
        <p:spPr>
          <a:xfrm>
            <a:off x="3346560" y="2521080"/>
            <a:ext cx="2450880" cy="181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" descr=""/>
          <p:cNvPicPr/>
          <p:nvPr/>
        </p:nvPicPr>
        <p:blipFill>
          <a:blip r:embed="rId7"/>
          <a:stretch/>
        </p:blipFill>
        <p:spPr>
          <a:xfrm>
            <a:off x="6337440" y="0"/>
            <a:ext cx="2806560" cy="2908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uppie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351080" y="1739880"/>
            <a:ext cx="6440400" cy="48132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Why is phenotypic variation not as important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otypic variation is the result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ic var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vironmental var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ch as maternal or paternal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completely heritabl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efinitions and Terminolog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s within populations or species in gene frequencies and distributions of tra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cro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level changes, e.g. generation of new species or higher–level class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ardy-Weinberg Equilibrium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ve conditions under which evolution cannot oc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five must be me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ny one is violated, the population will evolv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WE: Five condi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net change in allele frequencies due to m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ers of the population mate random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alleles do not enter the population via immigrating individu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opulation is l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selection does not oc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WE: 5 viol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, five ways in which populations CAN evolv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random m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gration (Gene flo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 population sizes (Genetic drif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ath of HW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the total of all allele frequencies is equal to 1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frequency of Allele 1 is 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the frequency of Allele 2 is 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+ q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ath of HW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, because with two alleles we have three genotyp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, pq, and q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requencies of these genotypes are equal to (p + q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, 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pq + 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 population of butterflies has 50 individu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alleles are in the population at one locu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distribution of genotype frequencies is 10 AA, 20 Aa, 20 aa, what are the frequencies of the two alleles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50 individuals, there are 100 all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A individual has 2 A’s, for a total of 20. Each Aa individual has 1 A, for a total of 20. Total number of A = 40, out of 100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= 0.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a has 1 a, = 20, plus 2 a’s for each aa (=40), = 60/100 a,  q = 0.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Or , q = 1 - p = 1 - 0.40 = 0.6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pq + 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 and p = 0.40 and q = 0.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pq + 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 and p = 0.40 and q = 0.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 = (0.40) X (0.40) = 0.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 = 2 X (0.40) X (0.60) = 0.4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 = (0.60) X (0.60) = 0.3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of a chromosome that encodes the information to build a prote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tion is known as a “locu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24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 is the source of genetic variation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4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other source for entirely new all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y widely acros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i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plural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u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viro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ed by phenotypic effects in huma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 of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er gamete per gen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tal number of gen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imates range from about 30,000 to over 100,000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ly everyone is a mutan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 rate of the HIV–AIDS vir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error every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e p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ze of the HIV–AIDS geno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e p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, about one mutation per replic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IV-AIDS Video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tes of mutation generally hi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s to a high load of deleterious (harmful) mu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x may be a way to eliminate or reduce the load of deleterious mutati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Type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int mu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-pair substit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sed by chance errors during synthesis or repair of D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s to new alleles (may or may not change phenotyp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Type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 du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 of unequal crossing over during mei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s to redundant g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ch may mutate fre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may thus gain new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Type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mosome du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sed by errors in meiosis (mitosis in pla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on in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s to polyploi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lead to new species of pl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ue to inability to interbre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ffect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ly speaking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mutations have little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are actually harm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w are benefi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llel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eties of the information at a particular l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organism has two alleles (can be same or different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limit to the number of alleles in a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ow can mutations lead to big changes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umulation of many small mutations, each with a small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umulation of several small mutations, each with a large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large mutation with a large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 in a regulatory sequence (affects regulation of developm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ormal fly head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ntennapedia fl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ndom mat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 random mating, the chance of any individual in a population mating is exactly the same as for any other individual in the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ly, hard to find in n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, can approximate in many large populations over short periods of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on-random mat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olations of random mating lead to changes in genotypic frequencies, not allele frequ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, can lead to changes in effective population size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lephant seal video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on-random mat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tion in the effective population size leaves a door open for the effects of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Drif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tic Drift Activit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Zygosit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mozygo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copies of the same allele at one l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terozygo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different alleles at one l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information contained at a l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alleles are actually present at a l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available: R and 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sible genotyp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R, RW, 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h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earance of an org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s from the underlying geno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h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1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R (red) and W (white), codomi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enotypes: Red, Pink, Wh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h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R (red) and w (white), simple domi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enotypes: Red, Red, wh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18:57:40Z</dcterms:created>
  <dc:creator>Cheryl A. Heinz</dc:creator>
  <dc:description/>
  <dc:language>en-US</dc:language>
  <cp:lastModifiedBy>LEGION2</cp:lastModifiedBy>
  <cp:lastPrinted>2003-02-06T20:57:53Z</cp:lastPrinted>
  <dcterms:modified xsi:type="dcterms:W3CDTF">2016-01-12T12:54:58Z</dcterms:modified>
  <cp:revision>28</cp:revision>
  <dc:subject/>
  <dc:title>Evolutionary Concepts: Variation and Mutation</dc:title>
</cp:coreProperties>
</file>